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C87B8-E7FA-4463-AF52-252F33B460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BCD69-2FBD-48E1-9455-2D45685C1F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DF1FB-87F7-483A-88F9-45BBD68BC6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2FFF-1D92-40B0-9331-8AAE3D615FF5}" type="datetime3">
              <a:rPr b="0" lang="en-US" sz="1200" spc="-1" strike="noStrike">
                <a:solidFill>
                  <a:srgbClr val="000000"/>
                </a:solidFill>
                <a:latin typeface="Arial"/>
              </a:rPr>
              <a:t>July 29,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ACC9D-9653-4894-8F36-ED82D5459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EBE0E-BFF3-47A6-B340-0DA1BE458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D817D-4774-4334-AFC4-07427976B0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D45CC-79A6-4B4F-B8C6-A5B9C59B7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C036E-C50B-4D91-A1FC-0CE6A058D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B115A-A01F-4B40-B758-D4BFF66AD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0EA5E-EC04-4C19-8DCF-00DEB46FE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4D35F8-6316-4052-867C-BBBA9BE64B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01C67-3AD4-48EB-8BF1-8171E7576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8C420-A02D-4824-B837-73858DDF5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CBD9A-6220-406D-AFAB-831C35BCA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A10A8-CD80-4B71-A0EE-712259E58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EDEE4-76EF-4171-B56F-31875AF8B7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FAB2C-0589-44BF-A929-A5EB1F4C1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055B7-BFEB-412A-BE78-92FD00032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AEE78-8B54-4FFB-9AD7-0ABD342AE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B8ED8-8E71-4C67-97DD-3F0508394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360018-ED02-4C53-B864-FF20A6C7A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F6A261-FC01-400D-A98B-E1F413B2DD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88CF64-F7E2-4A5F-87A2-8DAD7A24C5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448A5-FCDE-4D22-B55A-25C1A964D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4A161-0590-4370-95DB-676E347A9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EE0C3-906F-46CA-B5D7-E6BDA682F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7DF76-C8C4-4327-BB84-506F0CC5D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7D2D3-163B-4994-89B8-65841ECA1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B4A08-A9B8-4557-B6EB-4A77C4C84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45276-43C7-4C06-847B-D5B5B935D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92965-2AAF-4B55-98EE-299D917680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7DEA940-99D6-4206-B6F8-13D4145A4CC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70CFAE4-18B4-4F3D-BCCF-AAA253C7761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1607D-3446-4B59-89B4-1A80328213E2}"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5835A-1776-4114-9947-B9BE4467DFA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